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634F-5EF4-4D01-9B78-40AE7E67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3ACA2-C941-4725-B785-E6C1EAD3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92D8-4566-4DFA-B864-22FBA23A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24DD-FD63-4484-A451-54D30CDD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747A-B111-4604-867F-BEB9E23D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3C52-A6B1-4358-9E5B-E2746151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B297-7BA6-4BBB-A900-FD0FE016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3304-8254-4E59-A14A-5466135F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6A8B-7AAC-4BA6-AB0E-9EA0AE53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5DAD-30FA-41AF-A870-C9CBF3F9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BBB0-C425-49A1-9F64-F9FB1D79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C1C8-9A2C-4FDD-9A53-B8C0BF54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3830-D0B9-4607-9413-E9E1F322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CD62-5BC9-46F6-934B-7EAD10CA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AA6E-1FD9-4D5B-9903-FAA2F66C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15ED-4F2D-4E5F-9791-FB23370C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1827-9F1A-410A-9715-EF863652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9F8D-DACB-454C-B3A0-3A38A61B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D256-7085-44F4-B16A-1DB989EC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A061-F781-4A49-9FDC-E4E60C38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AE62-90E8-47ED-8457-9EC71A0F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7300-691A-4A03-A960-02AB9DDE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9B61-6D27-4807-A555-63B96981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E165-DB14-460D-A41A-7A45B092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07F7-8C6D-4E05-B8C4-BBB98D3526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895E-2B5A-4574-9780-DDF47030ED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dfdef6"/>
                </a:solidFill>
                <a:latin typeface="Arial"/>
              </a:rPr>
              <a:t>Redoxrektionen und Oxidationszahle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n Rike und Le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Überblic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lärung allgemeiner Begrif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xi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eduk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edoxreak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xidationsza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ederhol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ufgab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che Ladung haben Proton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e 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che Ladung haben Elektron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e 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sagt die Hauptgruppe über ein Atom a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e viele Elektronen sich in der äußerst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enz befin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ist Elektronegativitä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igt, mit welcher Kraft ein Atom Elektron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sich binden kan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Begriffserklärung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Wie ist die EN von Aluminium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1,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Was ist eine Elektronenpaarbindung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indung, bei der sich mehrere Atome ein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lektronenpaar/mehrere Elektronenpaare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teil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N-Differenz ist kleiner als 1,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eispiel: H2O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Was ist eine Ionenbindung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indung, bei der die EN-Differenz zwischen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en beteiligten Atomen größer als 1,5 i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eispiel: NaC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Wo im PSE findet man Metall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Oxid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ist eine Oxid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ktion mit Sauerstoff (einfache Defin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bgabe von Elektr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paltung von Wasserstoff (biologische Defin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spiel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+  2e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Reduk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ist eine Reduk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ktion mit Wasserstoff (einfache Defin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ufnahme von Elektr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paltung von Sauerstoff (biologische Defin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ispiel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2e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dfdef6"/>
                </a:solidFill>
                <a:uFillTx/>
                <a:latin typeface="Arial"/>
              </a:rPr>
              <a:t>Redoxreak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as ist eine Redoxreak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fnahme und Abgabe von Elektronen innerhalb einer Reak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xidation und Reduktion sind immer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einander gekoppe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ispiel: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+  2e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Cl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 + 2e-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Wingdings"/>
                <a:ea typeface="Wingdings"/>
              </a:rPr>
              <a:t>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2Cl</a:t>
            </a:r>
            <a:r>
              <a:rPr b="0" lang="de-DE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de-DE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de-DE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de-DE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g + Cl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+  2Cl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Oxidationszah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 Ionenbindungen ist es kein Problem, positive und negative Ladungen zuzuord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 Elektronenpaarbindungen schreibt man das/die Elektron/en dem Atom zu, das die höhere Elektronegativität 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Quell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hemie heute - Sekundarbereich II, Schroedel Verlag, Kapitel 8.2 , S. 1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as große Tafelwerk - interaktiv, Cornelsen, S. 1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ww.wikipedia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14:32:51Z</dcterms:created>
  <dc:creator>Eggert</dc:creator>
  <dc:description/>
  <dc:language>en-US</dc:language>
  <cp:lastModifiedBy>Rike</cp:lastModifiedBy>
  <dcterms:modified xsi:type="dcterms:W3CDTF">2007-02-14T20:20:16Z</dcterms:modified>
  <cp:revision>8</cp:revision>
  <dc:subject/>
  <dc:title>Redoxrektionen und Oxidationszahlen</dc:title>
</cp:coreProperties>
</file>